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-to-student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a network of conversation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raw a network map – what would those connections look like? Can you imagin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th talk learning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interaction in the math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ffective questioning mon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– learn to anticipate student thinking (with a facilita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return to the group – question by listening to the “students’”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rs – receive information about their role (recording the dialogue and thin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bservers return to the group to capture the dialog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ed to know what the whole is to know what the fraction is! (recall ribbon ques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whole that we are dividing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part of the whole does the leftover piece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rning goals are upfront here for our learning … Reminder: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not always the case in 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Placement &amp; clarify of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nticipate student thinking, use student responses to shift instruction and expose student th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th talk, express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video gets at what it means to develop a thinking classroom and a community of meaningful ta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questions tend to shut down thinking …the kids are tentative because they don’t know the answ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infeld evalu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ids working interpre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questions are about trying to hear and understand student thinking – not just ch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need to ask the right sorts of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can also develop question prompts that students ask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del what we might expect to hear in the classroom (practice asking Q to one another and listening in an interpretive se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rategy for changing our questioning is to write down ahead of time some standard questions that work in most situations (e.g. tell me more about that … tell me how you know … how does this connect to what we did yesterday …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ortance of a math talk learning commun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et model rather than a defici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interacting with each other in a true P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to understand student thinking – not just listening for misconce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(Chris’ perspective – “different understanding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do you understand this? How do you se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do we train ourselves to listen be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signing good questions takes time and “knowledge” … we learn as much from the kids as they learn from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next question I ask depends on how the student just responded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ve the probl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nticipate student think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otential ques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might the learning goals be - representing, selecting an appropriate model/t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2mi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ctivate the brownie problem using a story context (Fosnot) that requires kids make sense of to solv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b baked  brownies, her son got in and ate some, there were only 7 left. Deb’s daughter came in with her friends and they were going to split them up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ow much will each of the girls - Tori, Anna, Rachel, and Emily - ge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5mi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. Solve the problem to anticipate student thinking and identify potential questions to ask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lso consider, what learning goal might you have for this probl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5mi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3. Look at samples of student work at your table … use prompts from the resources at your table to push student thinking forward, to make sense of thinking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rite your questions on post-its - content/process/strategy – place on the student wor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06AA-07EA-4113-A631-3A0664220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9DBB-A394-4D99-BCD8-88DABB360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D069-C258-43A8-A7D1-1FBBB9E54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2E26-6ECE-4577-92CA-4A3EF643BF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45D3-C14E-49A0-8913-7C97C4F38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A7C6-6A5B-4CCA-B0D6-3FA9022CE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67DC-2B3E-4EEC-AFDE-D2DE17B51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A3CF-AC16-4912-AC49-1AFD3E736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DF0E-161B-4843-94C2-4EDB960C8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34AA-923E-4029-BB09-4A976A5CD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BCE8-48A6-4313-8B27-8F0F8E260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A7C9-E0C1-456A-BAC7-B92EB4E96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1DA-7282-4616-829F-762A1445AA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operativelearning.nuvvo.com/lesson/9592-seinfeld-teaches-histor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A5E7-5D39-4812-A8C7-8FDB2D1A87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</a:rPr>
              <a:t>Math CAMPPP 2012</a:t>
            </a:r>
            <a:br>
              <a:rPr sz="4800"/>
            </a:br>
            <a:r>
              <a:rPr b="0" lang="en-US" sz="4400" spc="-1" strike="noStrike">
                <a:solidFill>
                  <a:srgbClr val="2490d8"/>
                </a:solidFill>
                <a:latin typeface="Tahoma"/>
              </a:rPr>
              <a:t>Breakout 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1760" y="4038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7000"/>
          </a:bodyPr>
          <a:p>
            <a:pPr marL="34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Questioning, Listening and Respond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Promote Students’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ations &amp; Lear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sharing foundational to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division of whole numbers with fraction rema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model (represents a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model (3 pieces, 3 brown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ing of fractions (1¾=7/4=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½+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udent responses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insight into thei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lluminate ways the students understand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vide examples of ways of thinking for othe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ADCF-BBA2-489F-B065-5077D2FC95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oles …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– Ob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ibbon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have 7 yards of ribbon.  It takes 3/4 of a yard to wrap a gift.  How many gifts can you wr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gift box blue"/>
          <p:cNvPicPr/>
          <p:nvPr/>
        </p:nvPicPr>
        <p:blipFill>
          <a:blip r:embed="rId1"/>
          <a:stretch/>
        </p:blipFill>
        <p:spPr>
          <a:xfrm>
            <a:off x="4648320" y="1447920"/>
            <a:ext cx="40449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by Listening Simul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with a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s with a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ork on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ing to 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yback to student what I see in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et kids to reflect on their work and see where they can g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e studen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student-to-student network of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873-0ADB-4C61-A6E1-CDC8B3798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mmary …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questioning can serve to elicit and promote mathematical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can be a verb – the action of quotient (division) with two different but related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PQ template as an effective way to anticipate/identify good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E9E9-1A17-48EE-956A-8010E236E1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 as a Quotient (partitiv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fraction can represent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7 brownies divided among 4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of groups is know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mount per group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343E-B9AD-4965-9D79-DC5EF5809B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2286000" y="4191120"/>
            <a:ext cx="5791320" cy="1447560"/>
            <a:chOff x="2286000" y="4191120"/>
            <a:chExt cx="5791320" cy="1447560"/>
          </a:xfrm>
        </p:grpSpPr>
        <p:sp>
          <p:nvSpPr>
            <p:cNvPr id="97" name="Rectangle 5"/>
            <p:cNvSpPr/>
            <p:nvPr/>
          </p:nvSpPr>
          <p:spPr>
            <a:xfrm>
              <a:off x="373392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3047760" y="502920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4648320" y="502920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228600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708696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6248520" y="502920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5410440" y="4191120"/>
              <a:ext cx="990360" cy="6094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0"/>
          <p:cNvGrpSpPr/>
          <p:nvPr/>
        </p:nvGrpSpPr>
        <p:grpSpPr>
          <a:xfrm>
            <a:off x="2111400" y="3890880"/>
            <a:ext cx="6324480" cy="2309760"/>
            <a:chOff x="2111400" y="3890880"/>
            <a:chExt cx="6324480" cy="2309760"/>
          </a:xfrm>
        </p:grpSpPr>
        <p:sp>
          <p:nvSpPr>
            <p:cNvPr id="105" name="Freeform 13"/>
            <p:cNvSpPr/>
            <p:nvPr/>
          </p:nvSpPr>
          <p:spPr>
            <a:xfrm>
              <a:off x="6550560" y="3890880"/>
              <a:ext cx="1885320" cy="209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5170680" y="4089960"/>
              <a:ext cx="1517400" cy="187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3663720" y="3942000"/>
              <a:ext cx="1522800" cy="2258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2111400" y="3907440"/>
              <a:ext cx="1712520" cy="2044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 as a Quotient (measurement - quotativ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divide by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7 yards of ribbon, ¾ of a yard to wrap a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of groups (gifts) is un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mount per group (gift) is unknown (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4373-010A-4A4D-825D-74E68B331F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676520" y="4952880"/>
            <a:ext cx="6400800" cy="304920"/>
            <a:chOff x="1676520" y="4952880"/>
            <a:chExt cx="6400800" cy="304920"/>
          </a:xfrm>
        </p:grpSpPr>
        <p:sp>
          <p:nvSpPr>
            <p:cNvPr id="113" name="Rectangle 20"/>
            <p:cNvSpPr/>
            <p:nvPr/>
          </p:nvSpPr>
          <p:spPr>
            <a:xfrm>
              <a:off x="16765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71629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62485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53341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44197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35053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6"/>
            <p:cNvSpPr/>
            <p:nvPr/>
          </p:nvSpPr>
          <p:spPr>
            <a:xfrm>
              <a:off x="2590920" y="4952880"/>
              <a:ext cx="914400" cy="30492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9"/>
          <p:cNvGrpSpPr/>
          <p:nvPr/>
        </p:nvGrpSpPr>
        <p:grpSpPr>
          <a:xfrm>
            <a:off x="2362320" y="4724280"/>
            <a:ext cx="5486400" cy="762120"/>
            <a:chOff x="2362320" y="4724280"/>
            <a:chExt cx="5486400" cy="762120"/>
          </a:xfrm>
        </p:grpSpPr>
        <p:sp>
          <p:nvSpPr>
            <p:cNvPr id="121" name="Straight Connector 30"/>
            <p:cNvSpPr/>
            <p:nvPr/>
          </p:nvSpPr>
          <p:spPr>
            <a:xfrm>
              <a:off x="2362320" y="487656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40"/>
            <p:cNvSpPr/>
            <p:nvPr/>
          </p:nvSpPr>
          <p:spPr>
            <a:xfrm>
              <a:off x="37339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41"/>
            <p:cNvSpPr/>
            <p:nvPr/>
          </p:nvSpPr>
          <p:spPr>
            <a:xfrm>
              <a:off x="4419720" y="472428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42"/>
            <p:cNvSpPr/>
            <p:nvPr/>
          </p:nvSpPr>
          <p:spPr>
            <a:xfrm>
              <a:off x="51055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43"/>
            <p:cNvSpPr/>
            <p:nvPr/>
          </p:nvSpPr>
          <p:spPr>
            <a:xfrm>
              <a:off x="57913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44"/>
            <p:cNvSpPr/>
            <p:nvPr/>
          </p:nvSpPr>
          <p:spPr>
            <a:xfrm>
              <a:off x="64771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traight Connector 45"/>
            <p:cNvSpPr/>
            <p:nvPr/>
          </p:nvSpPr>
          <p:spPr>
            <a:xfrm>
              <a:off x="71629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traight Connector 46"/>
            <p:cNvSpPr/>
            <p:nvPr/>
          </p:nvSpPr>
          <p:spPr>
            <a:xfrm>
              <a:off x="78487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traight Connector 48"/>
            <p:cNvSpPr/>
            <p:nvPr/>
          </p:nvSpPr>
          <p:spPr>
            <a:xfrm>
              <a:off x="3048120" y="4800240"/>
              <a:ext cx="0" cy="609840"/>
            </a:xfrm>
            <a:prstGeom prst="line">
              <a:avLst/>
            </a:prstGeom>
            <a:ln w="25560">
              <a:solidFill>
                <a:srgbClr val="7575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66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use questioning and listening strategies that evoke and expose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xplore the concept of fraction as a quotient (partitive and quotativ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2B3F-9536-428A-820B-AE7EB58F04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F348-FD7E-4022-B09F-6D67D4B984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ew with a Purpos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operativelearning.nuvvo.com/lesson/9592-seinfeld-teaches-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8 math class in the OC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1320-F05E-425D-B37C-84042049AE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iew &amp; Discu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52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se two cla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C3B-985D-4EAB-8E49-D4D7EE27DE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dividual </a:t>
            </a:r>
            <a:r>
              <a:rPr b="0" lang="en-US" sz="4400" spc="-1" strike="noStrike">
                <a:solidFill>
                  <a:srgbClr val="2b5ca9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se a resource of you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they can be used     to help kids and ourselves      develop questioning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975280" y="2762280"/>
            <a:ext cx="3168720" cy="4095720"/>
          </a:xfrm>
          <a:prstGeom prst="rect">
            <a:avLst/>
          </a:prstGeom>
          <a:ln w="12600">
            <a:solidFill>
              <a:srgbClr val="00009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owni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864-A0BC-4D7D-AE9B-F183332058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brownies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28600" y="1066680"/>
            <a:ext cx="44956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e baked  brow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er son got in and ate some. There were only 7 left. Sue’s daughter and her friends walked in. They decided to  to split them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much will each of the girls, Tori, Anna, Rachel, and Emily, ge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4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ow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9" name="Content Placeholder 4" descr="Screen shot 2012-08-21 at 6.18.10 PM.png"/>
          <p:cNvPicPr/>
          <p:nvPr/>
        </p:nvPicPr>
        <p:blipFill>
          <a:blip r:embed="rId1"/>
          <a:srcRect l="-8463" t="0" r="-8463" b="0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1A82-8E25-45A5-91F9-14FD1E84FB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 Simulat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ticipate student thin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the learning goals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are some of the challenges in questioning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another’s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anging question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21:07:43Z</dcterms:created>
  <dc:creator>CSC</dc:creator>
  <dc:description/>
  <dc:language>en-US</dc:language>
  <cp:lastModifiedBy>Kathy Kubota-Zarivnij</cp:lastModifiedBy>
  <dcterms:modified xsi:type="dcterms:W3CDTF">2012-08-21T22:19:00Z</dcterms:modified>
  <cp:revision>35</cp:revision>
  <dc:subject/>
  <dc:title>&lt;Title&gt;</dc:title>
</cp:coreProperties>
</file>